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F61-653B-480C-9AC3-E1DBC324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638-D90E-48DC-9647-9A26D8DF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469-3643-4101-A801-7F8C5632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D30-418E-4764-869D-07A92DE2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89A8-6CC6-4917-8CF4-F6EBB69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56D-353B-4735-B52D-D6864091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D9C-38F1-413C-85BC-E6C760EA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D227-5188-41D3-AB5A-A7747F84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0DD-1C4E-456C-9EC8-8BBC7AB7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3838-29DE-403B-8BB6-50EA4E02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738-200B-441C-9FC0-6C24C2D7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597-6682-4217-9500-1984EEC9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9C67-12A3-41A4-837C-99EA86935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asants During The Middle Ag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sants that work the lands for protection are called Serf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peasants are free but most peasants are Serf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were allowed to keep very little of what they produce they give most of what they produce to their l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fs had a simple but uncomfortable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Serfs went to their lord in exchange for prot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sant didn’t have money or much of any 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sants were at the bottom of the triangle that divides people in the middle ages according to how much power they ha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a Serfs household ate and slept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ir households are made of c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te in the main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asants Were har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d to work all their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ing a Peasant or a Serf is a hard life but they get prot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6:41:21Z</dcterms:created>
  <dc:creator>Student</dc:creator>
  <dc:description/>
  <dc:language>en-US</dc:language>
  <cp:lastModifiedBy>Student</cp:lastModifiedBy>
  <dcterms:modified xsi:type="dcterms:W3CDTF">2011-03-25T17:26:05Z</dcterms:modified>
  <cp:revision>5</cp:revision>
  <dc:subject/>
  <dc:title>Peasants During The Middle Ages</dc:title>
</cp:coreProperties>
</file>